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908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0" b="22438"/>
          <a:stretch/>
        </p:blipFill>
        <p:spPr>
          <a:xfrm>
            <a:off x="133200" y="7920"/>
            <a:ext cx="121932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6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NTECH PROPRIETARY – NOT TO BE REPRODUC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39897"/>
          <a:stretch/>
        </p:blipFill>
        <p:spPr>
          <a:xfrm>
            <a:off x="0" y="0"/>
            <a:ext cx="9145440" cy="413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8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0458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0458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8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0" t="0" r="0" b="22438"/>
          <a:stretch/>
        </p:blipFill>
        <p:spPr>
          <a:xfrm>
            <a:off x="133200" y="7920"/>
            <a:ext cx="12193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06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NTECH PROPRIETARY – NOT TO BE REPRODUC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e ManTech MIC-IV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en All Else Fai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4176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ManTech MIC-IV</a:t>
            </a:r>
            <a:r>
              <a:rPr b="0" lang="en-US" sz="1800" spc="-1" strike="noStrike">
                <a:solidFill>
                  <a:srgbClr val="5f5f5f"/>
                </a:solidFill>
                <a:latin typeface="Palatino Linotype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– Mobile Communications Platfor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Immediate Deployment by land, air, and sea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Satellite broadband availability within minutes of arrival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Provides interoperability amongst all responders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Federal, State, Local, and Military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Any kind of radio: UHF, VHF, analog or digital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Provides voice, data, and video secure communications over Internet Protocol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2" marL="1119960" indent="-223920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Configurations</a:t>
            </a:r>
            <a:r>
              <a:rPr b="0" lang="en-US" sz="1800" spc="-1" strike="noStrike">
                <a:solidFill>
                  <a:srgbClr val="5f5f5f"/>
                </a:solidFill>
                <a:latin typeface="Palatino Linotype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– To Suit Users’ Need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Stand alone in temporary buildings or tents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Built in to vehicles or vessels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Easy to operate commercial-off-the-shelf equipment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Availability</a:t>
            </a:r>
            <a:r>
              <a:rPr b="0" lang="en-US" sz="1800" spc="-1" strike="noStrike">
                <a:solidFill>
                  <a:srgbClr val="5f5f5f"/>
                </a:solidFill>
                <a:latin typeface="Palatino Linotype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-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User Owned and Operated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Retained on an Emergency Use Basis (Owned, Operated, and Maintained by ManTech)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Leased on an as-needed basis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Scaled based on customer requirements and needs 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75000"/>
              </a:lnSpc>
              <a:spcBef>
                <a:spcPts val="374"/>
              </a:spcBef>
              <a:buClr>
                <a:srgbClr val="800000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Palatino Linotype"/>
                <a:ea typeface="Arial"/>
              </a:rPr>
              <a:t>Alternatives for ownership, operation, maintenance, and train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3333cc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the ability to communicate across traditional boundaries I.E. UHF to UHF Radio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land mobile radio to phone connectivity or EOIP to EOIP 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satellite connectivity world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s an immediate WiFi IEEE 802.11 Hot Spot access 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satellite phone service world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mobile and cellular connectivity using users own cell 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field access to HSIN or and “Class Networ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wireless facsimile, print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 Teleconferencing Capable with wireless digital camera (inclu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Kilowatt Generator for remote Op Center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Command and Control for DoD, Local, State Federal agen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Max IEEE 802.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Responder Deploy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s up in 3-10 minutes or less/ Drive away in 3 minutes or l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le of sending digital images or video from a handheld or mounted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le of connecting to and running an entire building infrastructure over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TV (CNN), and all other programs associated with Satellite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ggedized Rack Mount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Wide Capab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M Cellular Capable (Onboard Cellular Network Cap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The ManTech “MIC-IV” Operations Vehic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eatures that Matt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3716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Critical information always reaches key decision-makers when needed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Easily integrates into existing IT environment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Government and commercial secure communication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Ease of hardware integration flexibility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Bandwidth efficient in all wireless environments, e.g., Cellular carriers, 802.11, Bluetooth, and long haul network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Diverse radio interoperability (VHF, UHF, analog and digital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All commercially availab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8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Low c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nTech MIC-IV (Suburban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nTech MIC-IV (H3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3924360"/>
            <a:ext cx="4724280" cy="21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010280" y="8380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0880" y="1371600"/>
            <a:ext cx="6477120" cy="2133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4240" y="619200"/>
            <a:ext cx="3900960" cy="6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rebuchet MS"/>
              </a:rPr>
              <a:t>ManTech MIC-IV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5029200" y="838080"/>
          <a:ext cx="411480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838080"/>
                    <a:ext cx="41148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943600" y="2533680"/>
          <a:ext cx="2619360" cy="17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33680"/>
                    <a:ext cx="261936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RIOS_Screen_05Nov03" descr=""/>
          <p:cNvPicPr/>
          <p:nvPr/>
        </p:nvPicPr>
        <p:blipFill>
          <a:blip r:embed="rId5"/>
          <a:stretch/>
        </p:blipFill>
        <p:spPr>
          <a:xfrm>
            <a:off x="1171440" y="1295280"/>
            <a:ext cx="3857760" cy="2713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4191120"/>
            <a:ext cx="6019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Provides the ability to communicate between any types of dissimilar communications systems, e.g. radios, telephones, computers and other forms of communications systems ma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be connected into “Talk Groups”. In addition to voice communications, the RIOS will also allow for data inter-operability, using 802.XX technology.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irst Responders – Law Enforcement - State and Local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ter Agency - Emergency Operations Center 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0" name="" descr="First Response Exercise Blueforce Angel"/>
          <p:cNvPicPr/>
          <p:nvPr/>
        </p:nvPicPr>
        <p:blipFill>
          <a:blip r:embed="rId1"/>
          <a:stretch/>
        </p:blipFill>
        <p:spPr>
          <a:xfrm>
            <a:off x="6934320" y="3962520"/>
            <a:ext cx="188280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16280" y="2286000"/>
            <a:ext cx="146520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181480" y="1459080"/>
            <a:ext cx="3657600" cy="2427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2743200" cy="1898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200400" y="4648320"/>
            <a:ext cx="3581280" cy="1984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80880" y="1459080"/>
            <a:ext cx="31244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5:34Z</dcterms:created>
  <dc:creator>jmesserl</dc:creator>
  <dc:description/>
  <dc:language>en-US</dc:language>
  <cp:lastModifiedBy>elhayden</cp:lastModifiedBy>
  <dcterms:modified xsi:type="dcterms:W3CDTF">2009-02-13T15:21:46Z</dcterms:modified>
  <cp:revision>245</cp:revision>
  <dc:subject/>
  <dc:title>PowerPoint Presentation</dc:title>
</cp:coreProperties>
</file>